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35A-4CEC-4E3A-B881-DB8EC1FE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27F-6BB4-45EE-9795-39FC9FD5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A0A-B8EB-4089-B524-4C3C29B5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246-E000-409F-A661-F6D17387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CF27-3DB4-4389-9991-4919A1AB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F61-F7D5-43DD-8237-8D597FB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995-AD05-4C24-8E29-91DFBF2B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C07-4C89-4CA7-B5A3-24439FB9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100-AC0E-43E1-853F-3EB352AD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6113-7EC9-41F8-97F8-C3404C7F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8373-FE9D-4426-AE37-0ED9943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8C2-2321-44EF-B717-1836F49A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23E3-B218-4228-B0BB-C5F6A57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F976-B2AE-4DA3-84FD-33FCBBC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3D96-15B1-4B34-98C8-2A48947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22CF-7316-4552-995C-B9FC694E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97DE-37CB-4DA0-8414-B3470007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1C8-DCBD-4DB1-83F1-BA6FE68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ED6-B708-4A4C-B5CA-F85B31C5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6A9-C742-490D-AD1F-7451C69F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603-F94E-4DD8-8712-E6E35F45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0A7-45A9-4AD5-AC98-E1E368B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929-EDF8-4AD7-8A5A-8EDEBF2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C71-6490-489D-8AA1-0820A48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6B24-078E-46D2-A8B3-C4C69AD73C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9A11-E6B4-4ADB-818B-A8D5C67F8A0C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fjpwbCUT2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Renaissance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190760"/>
            <a:ext cx="50292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Origins &amp; Form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Technology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utenberg's Printing Pre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deas spread fa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’t be undo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re litera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rives literac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ooks are still expensive though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Ar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atomy – Reali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spective makes it 3-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thology &amp; Relig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ulp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ud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onatello &amp; Michelangelo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5" descr="school-of-athens"/>
          <p:cNvPicPr/>
          <p:nvPr/>
        </p:nvPicPr>
        <p:blipFill>
          <a:blip r:embed="rId1"/>
          <a:stretch/>
        </p:blipFill>
        <p:spPr>
          <a:xfrm>
            <a:off x="1371600" y="1557360"/>
            <a:ext cx="7772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TRO PARAGRAPH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Contex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(what was the Renaissance/why then/what came before, who enjoyed this movement?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Set the promp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previous art styles, why is art importa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CLAIM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write your claim or the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Painting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listic fe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a Vinci: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Mona Lisa &amp; Last Supp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elangelo: Sistine Chap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rchitecture = domes/colum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5" descr="0035FCI"/>
          <p:cNvPicPr/>
          <p:nvPr/>
        </p:nvPicPr>
        <p:blipFill>
          <a:blip r:embed="rId1"/>
          <a:stretch/>
        </p:blipFill>
        <p:spPr>
          <a:xfrm>
            <a:off x="2895480" y="3865680"/>
            <a:ext cx="37339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Literatur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rite in vernacul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trarch: sonnets &amp; poe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occaccio: collection of off-color stor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hiavelli: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The Pri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ise on rul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t is better to be feared than lov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ds justify the me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Picture 6" descr="machiavelli"/>
          <p:cNvPicPr/>
          <p:nvPr/>
        </p:nvPicPr>
        <p:blipFill>
          <a:blip r:embed="rId1"/>
          <a:stretch/>
        </p:blipFill>
        <p:spPr>
          <a:xfrm>
            <a:off x="0" y="4343400"/>
            <a:ext cx="2185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Northern Renaissa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ligion/Philosophy is the fo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Johannes Gutenber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vable type: Printing Pr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ess expensive book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d literac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glish autho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re “Utopia”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hakespe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Picture 5" descr="vaneyck_arnolfini_art"/>
          <p:cNvPicPr/>
          <p:nvPr/>
        </p:nvPicPr>
        <p:blipFill>
          <a:blip r:embed="rId1"/>
          <a:stretch/>
        </p:blipFill>
        <p:spPr>
          <a:xfrm>
            <a:off x="0" y="0"/>
            <a:ext cx="144468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sir-thomas-more-170x225"/>
          <p:cNvPicPr/>
          <p:nvPr/>
        </p:nvPicPr>
        <p:blipFill>
          <a:blip r:embed="rId2"/>
          <a:stretch/>
        </p:blipFill>
        <p:spPr>
          <a:xfrm>
            <a:off x="7589880" y="2362320"/>
            <a:ext cx="155412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akespeare"/>
          <p:cNvPicPr/>
          <p:nvPr/>
        </p:nvPicPr>
        <p:blipFill>
          <a:blip r:embed="rId3"/>
          <a:stretch/>
        </p:blipFill>
        <p:spPr>
          <a:xfrm>
            <a:off x="7147080" y="4267080"/>
            <a:ext cx="19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ocus of the North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tian Hum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n is to reform and fix the chur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ve in accordance to the B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fect societies based on the Gospe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rt honors the simple trades and business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orm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5" descr="Jan-Van-Eyck-The-Arnolfini-Portrait-8246"/>
          <p:cNvPicPr/>
          <p:nvPr/>
        </p:nvPicPr>
        <p:blipFill>
          <a:blip r:embed="rId1"/>
          <a:stretch/>
        </p:blipFill>
        <p:spPr>
          <a:xfrm>
            <a:off x="0" y="0"/>
            <a:ext cx="191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828800" y="17521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Legacy of the Renaissa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1600" y="1600200"/>
          <a:ext cx="7772400" cy="5029200"/>
        </p:xfrm>
        <a:graphic>
          <a:graphicData uri="http://schemas.openxmlformats.org/drawingml/2006/table">
            <a:tbl>
              <a:tblPr/>
              <a:tblGrid>
                <a:gridCol w="4162320"/>
                <a:gridCol w="361008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HANGES DURING THE RENAISSANC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ffdc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 OF CHANGE ON SOCIETY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18720">
                      <a:solidFill>
                        <a:srgbClr val="c0c0c0"/>
                      </a:solidFill>
                    </a:lnB>
                    <a:solidFill>
                      <a:srgbClr val="ffdc85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INTING PRES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ore information, Less expensive, Rise in literacy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1872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BLISHED ACCOUNTS OF MAPS &amp; CHAR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AWS PUBLISHE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ople more likely to know their right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UMANISTS SPREAD IDEA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iews changed about how to live, wonder about nature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RT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ew techniques used, Portrayed individuals realistically, Achievement valued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2d9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EOPLE BEGAN TO ? RELIGION &amp; POLITIC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testant Reformation, Revolutions will occur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8462c"/>
                </a:solidFill>
                <a:latin typeface="Arial Black"/>
              </a:rPr>
              <a:t>Utopia</a:t>
            </a: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 vs. </a:t>
            </a:r>
            <a:r>
              <a:rPr b="0" i="1" lang="en-US" sz="4000" spc="-1" strike="noStrike">
                <a:solidFill>
                  <a:srgbClr val="98462c"/>
                </a:solidFill>
                <a:latin typeface="Arial Black"/>
              </a:rPr>
              <a:t>The Pri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The Princ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R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Utopia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: R5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 and answer the ques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plete the Char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tro Clip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Episode #6 11:20, 6 minu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vivors – Cradle of Capital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From Failure to Fruition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urope had suffered due to things beyond their contr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a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urch . . 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naissanc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naissance = Rebir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birth of wha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ssical ideas and believ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reek &amp; Roman cultu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rt &amp; Lear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fe – new ide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5" descr="Roman%2520ruins"/>
          <p:cNvPicPr/>
          <p:nvPr/>
        </p:nvPicPr>
        <p:blipFill>
          <a:blip r:embed="rId1"/>
          <a:stretch/>
        </p:blipFill>
        <p:spPr>
          <a:xfrm>
            <a:off x="5486400" y="442908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Why Italy?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ity-States: no economic cri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ssical traditions: ruins and remin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ded with Muslims and Byzantiu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tr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Picture 5" descr="ancient_roman_ruins_SHNS"/>
          <p:cNvPicPr/>
          <p:nvPr/>
        </p:nvPicPr>
        <p:blipFill>
          <a:blip r:embed="rId1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Humanism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ovement focusing on the achievements and potential of human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(secular) Often not concerned with Christian teaching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chool, government, na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(classicism) Studied the ancients: history, literature, and philosophy = human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In practice?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fe should be fulfil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e the beauty in individual achievements (in god’s image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ll-rounded = Renaissance M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usic, poetry, literature, engineering, inventing, history, art &amp; sculp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nk da Vin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5" descr="ANd9GcSf0LCCM__HObEyWARiwU2S3ZPpHPn5zxMfHFBixKgwgslUw_oEIA"/>
          <p:cNvPicPr/>
          <p:nvPr/>
        </p:nvPicPr>
        <p:blipFill>
          <a:blip r:embed="rId1"/>
          <a:stretch/>
        </p:blipFill>
        <p:spPr>
          <a:xfrm>
            <a:off x="6172200" y="5068800"/>
            <a:ext cx="2971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naissance Challeng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rite I am a Renaissance pers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rmal, other hand,                  , du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ak multiple languag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y an instrument/s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rite poetry/stor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ed…GPA over 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tistic/takes an art cla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hlet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bbie (crafting, woodworking, cooking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vid read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terested in inventing thing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9907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Religion?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ny remained Catholic but humanism changed secular lif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ople could enjoy pleasure without sinn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al Man: well-rounded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al Woman: educated, supporters of the ar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9:48:49Z</dcterms:created>
  <dc:creator>Robert Kuenzi</dc:creator>
  <dc:description/>
  <cp:keywords/>
  <dc:language>en-US</dc:language>
  <cp:lastModifiedBy>Administrator</cp:lastModifiedBy>
  <dcterms:modified xsi:type="dcterms:W3CDTF">2016-02-09T16:15:52Z</dcterms:modified>
  <cp:revision>27</cp:revision>
  <dc:subject/>
  <dc:title>Renaiss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31033</vt:lpwstr>
  </property>
</Properties>
</file>